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C7D-3DA4-4822-B128-832FB2A5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075-326C-489A-A786-6B686B67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B87-860A-46F9-A51B-FFFA18C4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AAD-D7CD-4639-A33B-8808C8D5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204C-3A60-47A4-9198-9CFA19F7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602F-51E2-4B11-AEFE-388B4873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B852-C69B-47F3-8C7B-E97DF91D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58CF-0EB0-4DF2-9638-57FE80A9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3BB4-049D-4CF8-931E-B0CF43A3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0EF1-6FFE-4C90-88BE-ED10C86F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8D0C-8661-4243-BC97-8A16553A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CC5-15B2-48F3-9BAB-E2088302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8225-356E-46E5-9E99-F9EC4817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9E57-9283-475E-AD2F-95F9E820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9CF7-3F67-4A25-94F8-F5E783F8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D3A2-BEB2-41B5-A5D4-2CA680DE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B996-FB90-4A47-97A2-2F946DD4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7B9-CA36-4194-9362-292B8EC2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74B-3E3F-4AF3-9C44-15D0F468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53B-D3C8-4C1D-976B-5DA31922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4EE-96DB-4E06-ABEE-7860AE63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383-C74B-4650-AF52-7B1985A8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062-7078-483B-93FA-51A0E50D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603-4B5F-4ECA-84D1-E918ABDC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948E-0489-4399-9A98-EA60116298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A3D9-BA3A-4F9A-83A0-1E35B25C00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atsachen-ueber-deutschland.de/en/culture-and-media.html" TargetMode="External"/><Relationship Id="rId2" Type="http://schemas.openxmlformats.org/officeDocument/2006/relationships/hyperlink" Target="http://www.cometogermany.com/ENU/culture_and_events/germany_culture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c/Berlinale_Palast_Eingan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Blue Highway Linocut"/>
              </a:rPr>
              <a:t>GERMAN CUSTOMS AND TRADITIONS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ue Highway Linocut"/>
              </a:rPr>
              <a:t>THE AR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WORK CITE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914400" y="1295280"/>
            <a:ext cx="7543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lue Highway Linocut"/>
              </a:rPr>
              <a:t>Author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lue Highway Linocut"/>
              </a:rPr>
              <a:t>REBECCA KI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lue Highway Linocut"/>
              </a:rPr>
              <a:t>Articles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tatsachen-ueber-deutschland.de/en/culture-and-media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cometogermany.com/ENU/culture_and_events/germany_culture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vistawide.com/german/german_music/german_music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lue Highway Linocut"/>
              </a:rPr>
              <a:t>Illustrations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en.wikipedia.org/wiki/File:Berlinale_Palast_Eingang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youropi.com/de/berlin/standorte/bebelplatz-9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tz-online.de/nachrichten/stars/nena-wird-grossmutter-365633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metrolyrics.com/helene-fischer-pictures-pic-93374.htm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Source 1: “Facts about Germany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ermany has 94,000 new books per year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are around 130 professional orchestra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ainting revelation was caused by the “Young German Artists“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erman media includes both public and private media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erman press performs analysis on current topic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312444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BILD 1: Berlin International Film Festiv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Picture 5" descr="File:Berlinale Palast Einga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76212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Source 2: “Come to Germany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Berlin is the former leading center of expressionism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erman modern and post-modern art is famou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ermany is home to over 100 classical musical theater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Famous German composers: Beethoven, Bach, Schumann, Mendelssohn, and Brahm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oethe is one of the famous German poets and philosopher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3200400" cy="60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BILD 2: Book Tower in Bebelplatz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8" name="Picture 9" descr="0)"/>
          <p:cNvPicPr/>
          <p:nvPr/>
        </p:nvPicPr>
        <p:blipFill>
          <a:blip r:embed="rId1"/>
          <a:stretch/>
        </p:blipFill>
        <p:spPr>
          <a:xfrm>
            <a:off x="4419720" y="228600"/>
            <a:ext cx="4286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Source 3: “World Languages &amp; Culture: German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ermany is famous for its classical folk music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the 1920’s, English lyrics were popular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Tahoma"/>
              </a:rPr>
              <a:t>Neue Deutsche Welle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movement led German singers to go international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Nena and other singers became popular worldwid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575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Tahoma"/>
              </a:rPr>
              <a:t>Deutschrock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encouraged many German singers to adapt German lyrics in modern music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24386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BILD 3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Picture 7" descr="Nena freut sich Großmutter zu werden."/>
          <p:cNvPicPr/>
          <p:nvPr/>
        </p:nvPicPr>
        <p:blipFill>
          <a:blip r:embed="rId1"/>
          <a:stretch/>
        </p:blipFill>
        <p:spPr>
          <a:xfrm>
            <a:off x="4267080" y="228600"/>
            <a:ext cx="4524480" cy="339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German singer Helene Fischer stands on stage with her prize ..."/>
          <p:cNvPicPr/>
          <p:nvPr/>
        </p:nvPicPr>
        <p:blipFill>
          <a:blip r:embed="rId2"/>
          <a:stretch/>
        </p:blipFill>
        <p:spPr>
          <a:xfrm>
            <a:off x="457200" y="3124080"/>
            <a:ext cx="4686480" cy="3200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8"/>
          <p:cNvSpPr/>
          <p:nvPr/>
        </p:nvSpPr>
        <p:spPr>
          <a:xfrm>
            <a:off x="5715000" y="4648320"/>
            <a:ext cx="32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ue Highway Linocut"/>
              </a:rPr>
              <a:t>German Sing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3657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2743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elene Fisc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QUESTIONS / FRAGE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is one of the famous German compos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 media is dual existence of _______ and _______ med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lue Highway Linocut"/>
              </a:rPr>
              <a:t>ANSWERS / ANTWORTE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ethoven, Bach, Schumann, Mendelssohn, Brah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ate /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6:49:02Z</dcterms:created>
  <dc:creator>SCSadmin</dc:creator>
  <dc:description/>
  <dc:language>en-US</dc:language>
  <cp:lastModifiedBy>SCSadmin</cp:lastModifiedBy>
  <dcterms:modified xsi:type="dcterms:W3CDTF">2011-11-09T17:27:08Z</dcterms:modified>
  <cp:revision>33</cp:revision>
  <dc:subject/>
  <dc:title>GERMAN CUSTOMS AND TRADITIONS</dc:title>
</cp:coreProperties>
</file>